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53E-8773-4412-B428-AC93F7AB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48C2-B1B4-42C6-83AE-B2F1542F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B8E7-7299-4007-9D5D-B66A0082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9E2-370F-442D-8651-767EEA48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3D75-C13A-4C87-9A4B-5C3A18D8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622-FAC9-4DE6-A828-E1C17929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7E7-FB97-4A7B-98D2-21AE9A96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A63-2679-4C87-9B29-9BEAB6C9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C525-18CF-478C-8A02-43B9A0E8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82D-B086-4CA9-A97A-891C816F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F7D5-B721-4045-A19C-7582D7A4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43A-C6EF-4950-BBA9-2420F476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0719-8B66-48E6-A12D-571DBD31346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ABLASI DÜN YARIŞMAYA KATILD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14200" y="214200"/>
          <a:ext cx="8715600" cy="6357960"/>
        </p:xfrm>
        <a:graphic>
          <a:graphicData uri="http://schemas.openxmlformats.org/drawingml/2006/table">
            <a:tbl>
              <a:tblPr/>
              <a:tblGrid>
                <a:gridCol w="8715600"/>
              </a:tblGrid>
              <a:tr h="1271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xxxxxxxxxxx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HİÇBİR ZAMAN HAYIR GELMEZ ONDA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HASTA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OLDUM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SOĞUK ODALARD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KURU BİR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ÇİÇEK BULDUM, MEKTUPLARIN ARASIND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KALBİNİZE İYİLİK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YAPI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SINAV KAYGISI YAŞATIYORUZ ÇOCUKLAR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BİLİM KURGU FİLMİNE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GİTTİ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VİRAJLI BİR YOLDAN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GEÇTİ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BEN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KOOPERATİFE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ÜYE OLDUM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9:06:34Z</dcterms:modified>
  <cp:revision>137</cp:revision>
  <dc:subject/>
  <dc:title>KONU 1</dc:title>
</cp:coreProperties>
</file>